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F69-2959-4870-98FD-EFDA9BC81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BD42-D1B3-4CB3-B320-A43BF06167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A75D-37BB-40CC-88D2-B331FE40E6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065B-652F-4857-AB9A-F445B108B2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A0D-3BC6-4524-98DA-80EE575F09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421-7185-41CC-812F-B41DDDF9C0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A21-B4C8-4405-896C-369E520D7D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36A7-FB76-46F9-8F25-CF16378CBD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19B-7D95-40C9-A9C4-7EAB896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8CB-E5AD-4C1A-ADE5-DEE6216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081-6F83-435E-B226-14EF536A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200-A636-421F-9521-8BBCE889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B4E0-C1C1-4FDD-80FC-4C666E4F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6EA8-DC5C-41E9-BB5E-2318CBD4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42E-C809-4DE4-843B-6DBE718E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1C2-1971-468A-9EBB-15B8304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4330-F1A9-417E-BE6F-C1512C28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02E6-E389-4561-A80D-F44BAD39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D07C-2D11-45D7-A11B-E3E898FE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EA1-B4EE-4D31-9A82-893D139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6585-175D-445C-80E6-D15CB4CB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E55-96A9-4C14-978A-06D0B35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2A5D-029E-4FCA-AE55-4EA152F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9F2F-40CE-4263-90D8-D054B6F5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8E1-1946-4EE4-8F4E-0EAB32EF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6487-7C76-4DAC-9DF4-1F811CD1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AFAB-635A-489B-A72B-D853D29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43FF-B7AD-459B-8FBF-D842A38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BD83-878A-4146-80FF-583EF53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2873-43C5-4652-B188-865243B1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397-E10E-4817-BC0D-ABAD174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561D-FCE7-4935-ACC6-AC86DA4B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F0BC-6E42-4876-846E-6107261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5A9A-A2B7-42E9-AAC4-51698B5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DE12-CB5C-49B5-A908-894AFD9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819E-C45D-4497-A0ED-6D58398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46D7-C3B3-4F2E-A58F-FC19753E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0070-21B7-43E3-8D24-39F93FAA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5396-9540-4FEC-9E4C-080ECDC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354E-239B-47EE-BE87-99A8B84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CD81-5388-4527-8D4E-67CF8DA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7DC-1DDB-4AF7-856A-EB180566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3571-9DC0-4799-BC7E-C8D90BD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EB33-5BC0-4BC9-9963-4F98F8D9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6FD2-8C31-4E8D-9CFA-838C3B27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F514-119F-444D-BC9A-3406E5C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9616-008B-42E0-9212-AC4C8AB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FEEB-F9BF-4008-9AFE-EFA9ED4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801C-1237-4ACA-84F2-AA49EF61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AA26-7AD0-491E-8110-46C47596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C9DD-27F5-4966-81B2-0C83C104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3E4F-01A9-44F0-974A-A26BC4E2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4B0-1823-463D-B74F-A140A5F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5E43-DC0C-4904-A4B5-3E835FC5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2B1F-245A-4970-A105-4F5AEFF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311D-889C-4718-8147-669321F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F45B-48AE-41E3-8B54-3E0A7AC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C942-3E6D-4A56-8D25-39E0DB41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3F87-A85A-45E4-A7F1-2B22A76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5C00-0BD6-4741-A13F-C69C4E0E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AF62-E170-497F-B288-E61CDB3F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2F3E-03B2-4E01-B2CA-D0EDC40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79BA-38A9-4378-A0E3-F61D98FD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00C-6767-416C-9F5D-EEFE57E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C51D-468F-4769-B536-ED213D02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CA2CF-270C-404C-9917-06F8593A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182C-0C9A-453E-BBFE-5C979D09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9E477-388A-4C55-ABFE-66F0798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B4D7-B5E6-45B5-9083-B16D7FD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FD9EF-0DA0-4924-8E16-D949E74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3A25-D4A4-4775-891B-F8B3646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3006-FF59-4799-B9A6-F477B5C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C8DC-BBE1-4685-BDA8-5B7E91B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48D9-890D-490F-A574-FD98773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069-375C-4ABB-9870-2A73590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4647A-F264-4804-AA7F-910890E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B4E33-A3D6-4756-B74C-B97CC36D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EA61-CAF2-4B95-9325-18B212C7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87408-2E39-4148-9EC2-9CB0BAF6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00B3-C1A7-4F36-9FF2-2CADA29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41D62-3222-49EA-B5C9-CB5AD500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BFEB-2794-42BB-9CAB-C463BC80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6D019-6E61-4BE3-965F-2A7090A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66AF3-896A-49EF-A3BA-8B8916E9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A497-3B5C-4F87-AEC1-6F93174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BEF-EE68-48E6-9562-FF6E2D2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DA600-CDF1-419B-AA26-2ED623E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E6B7D-A084-43A6-842F-38121B6A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D76A-7BE9-451A-B6DB-E4629099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9CAE-738C-4204-B793-08BCF26F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B98BA-84F7-4545-A243-C2B4EDAC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2AA1-6563-4A1A-B514-A7A816C0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B978-71EA-41C0-A3F0-6B97A76D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C47A6-8908-4234-9719-36A5E9E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C63D8-9B17-485C-8279-E32F4C6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A2799-8F2E-484B-B54B-E0BF5811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2B1-C94D-4340-90DB-EB1587C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21664-78B2-4AEE-9D81-8E53DB3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D4A6-D55B-473A-B23D-067E23B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2727-9048-4CCD-A1DC-28D88513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04522-D5D6-4664-AB29-B4BAE3C4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8F05-A1A5-46B5-88B1-649AF96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2360-036E-4E86-90F0-20E39A5E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946D-40AC-481F-89DF-F09E5C9F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68E7-F43B-43F4-9F73-FF01C599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1A0-3918-4586-B853-057B67A163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820A-2CE8-4EDC-8C32-DEA4C51CD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9673-D047-4CE3-9232-09C82FCC1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107-DC41-4040-87F3-037A62A1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C1A-2221-41F6-B6D0-2546025F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2011-52B2-4184-920A-E1A562412B8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53C8-48B2-49AF-8EDB-8D88DE916D2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500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9944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359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86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12720" y="1143000"/>
            <a:ext cx="5840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8104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3:18:53Z</dcterms:created>
  <dc:creator>Andrea Pascasio</dc:creator>
  <dc:description/>
  <dc:language>en-US</dc:language>
  <cp:lastModifiedBy>Andrea Pascasio</cp:lastModifiedBy>
  <dcterms:modified xsi:type="dcterms:W3CDTF">2008-12-01T03:28:33Z</dcterms:modified>
  <cp:revision>1</cp:revision>
  <dc:subject/>
  <dc:title>Slide 1</dc:title>
</cp:coreProperties>
</file>